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A6F-2943-423A-ABD5-52517EED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3B9-717F-4560-81C9-5DFA7C2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8A6-9755-4354-910C-615EA344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976-4104-4625-B996-7E48A755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A9B-219A-452F-9D42-498EB51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997-2669-4887-B0E0-A6D7FB7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6F4-07A8-4E2F-AAA3-729796C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F2D-D9B6-4E84-A67D-B65AF6C6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E00-DC0D-45A6-814C-4BB9DDC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75C-C610-4237-84FF-B619A61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9FF-55C4-4C8F-ADCA-5F0BB26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E20-652B-4DF2-A839-FE43192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C85D-2F9A-492C-820F-0ABE7DB91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missing s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24745" t="62298" r="61577" b="24239"/>
          <a:stretch/>
        </p:blipFill>
        <p:spPr>
          <a:xfrm>
            <a:off x="1523880" y="2590920"/>
            <a:ext cx="5324760" cy="327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95480" y="34290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429000" y="5029200"/>
            <a:ext cx="1143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ight triangle, if you have two sides you can find the missing side using the Pythagorean theo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8890" t="38223" r="54446" b="20892"/>
          <a:stretch/>
        </p:blipFill>
        <p:spPr>
          <a:xfrm>
            <a:off x="3200400" y="266688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22223" t="22223" r="23333" b="36224"/>
          <a:stretch/>
        </p:blipFill>
        <p:spPr>
          <a:xfrm>
            <a:off x="457200" y="1600200"/>
            <a:ext cx="8305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20556" t="39999" r="39446" b="32444"/>
          <a:stretch/>
        </p:blipFill>
        <p:spPr>
          <a:xfrm>
            <a:off x="838080" y="380880"/>
            <a:ext cx="5486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…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22640" t="18519" r="37375" b="32659"/>
          <a:stretch/>
        </p:blipFill>
        <p:spPr>
          <a:xfrm>
            <a:off x="1523880" y="1447920"/>
            <a:ext cx="60199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agorean Theorem Worksheet #2 numbers 7-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5:37:09Z</dcterms:created>
  <dc:creator>setupuser</dc:creator>
  <dc:description/>
  <dc:language>en-US</dc:language>
  <cp:lastModifiedBy>setupuser</cp:lastModifiedBy>
  <dcterms:modified xsi:type="dcterms:W3CDTF">2014-03-07T15:48:21Z</dcterms:modified>
  <cp:revision>14</cp:revision>
  <dc:subject/>
  <dc:title>Pythagorean Theorem</dc:title>
</cp:coreProperties>
</file>